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62955"/>
        <c:axId val="85828780"/>
      </c:barChart>
      <c:catAx>
        <c:axId val="729629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28780"/>
        <c:crosses val="autoZero"/>
        <c:auto val="1"/>
        <c:lblAlgn val="ctr"/>
        <c:lblOffset val="100"/>
        <c:noMultiLvlLbl val="0"/>
      </c:catAx>
      <c:valAx>
        <c:axId val="85828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629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5F3-6C05-4AB0-8C2E-70DBFC89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A47-0BD7-49A5-BC34-CCD63F33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C85-A323-4189-A738-3C114BAA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5695-E54E-4A40-92E5-42EF18A5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2CC-7168-434D-A29E-0C3C3439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DB42-F51D-4363-A010-683BFC02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F33B-CB39-46B1-8BDF-DCB88179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14A-4D73-4B7F-A83B-B18DE5DC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CC5-0D0B-4755-9F10-2C54ACE9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502-E46D-44B1-8948-665B57D5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F1A-7BCD-474B-BC1B-1CA03E5B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212-DD2F-4BF2-94A2-FBA88462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AF5A3-F20B-48F5-B282-8BC080B465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