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37497"/>
        <c:axId val="25236789"/>
      </c:barChart>
      <c:catAx>
        <c:axId val="46737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36789"/>
        <c:crosses val="autoZero"/>
        <c:auto val="1"/>
        <c:lblAlgn val="ctr"/>
        <c:lblOffset val="100"/>
        <c:noMultiLvlLbl val="0"/>
      </c:catAx>
      <c:valAx>
        <c:axId val="25236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7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EB9-568A-4F03-B20B-A7B7298D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74B-211B-490D-BFB1-22AF322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30C-A6B8-40E8-97CE-3FD9F982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4DC-9710-4401-B516-D1F9CB6D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581-AB12-4D58-A446-9D297C8C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143-52DC-4E66-B4B8-CF4E6DE7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4C9-33A3-4481-B7B7-7DCB99A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DED-97AE-401D-80A9-2CDD3494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92C-1E8C-4F76-A4F3-79A0F596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AFC-6AE0-40BE-A89A-017456C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D96-7FFA-4883-B7B5-3D2B86E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3F0-FA4D-42F4-ADED-961807B8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EAAD5-FD56-4864-9A7D-C4A6651AD5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