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5890"/>
        <c:axId val="95803726"/>
      </c:barChart>
      <c:catAx>
        <c:axId val="87375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3726"/>
        <c:crosses val="autoZero"/>
        <c:auto val="1"/>
        <c:lblAlgn val="ctr"/>
        <c:lblOffset val="100"/>
        <c:noMultiLvlLbl val="0"/>
      </c:catAx>
      <c:valAx>
        <c:axId val="95803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5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7CC-0D9F-48AD-97E9-CDBDD054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962-85D3-4BA1-B2E9-EF56B532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A3D-D22B-4466-9108-F3437D6A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B21-74BA-4CA3-9906-13D3E784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507-0D18-4DDF-9F8B-5967A3A3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B42-1D95-49A2-9C99-A874D7C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5E5-B04B-4D04-A63D-0C891074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CE3-4CBD-4B36-B07B-BAC85CF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842-EB8F-4355-8034-933733E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D81-0289-4FDF-9020-8E36F563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F79-2470-4731-B605-54A8308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AC5-CDDA-4065-90EF-C88FDAF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CD70-E51A-497C-869D-8143189DCB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