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4D8C-5A21-40D9-84A7-63910970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1692-1512-4905-BEC1-7B41DD8F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261C-C037-455A-ADE5-B03827EFC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B3AD-58FA-4E34-8B4C-373E31E28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D496-17CE-44B3-ADFB-C669CA2B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D8F2-71DB-48BE-A8A6-509B2D07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E693-1BFF-409A-836E-F1C1796E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D8C9-72A3-43CC-8FA0-47728E69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FB21-2068-46E3-A0FD-949B11EB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A368-E285-427B-8891-591BC4C2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425A-4DA8-4860-AABC-1F44D63D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7748-7860-48D6-B8DE-BBE8905C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8BFB-07BE-4EB7-BE7B-9E43378F27D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27B6-5C18-4502-B728-7A49FEDD0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5A57-4137-473E-B2DC-73E9459463B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B3C639-3120-4C81-8106-47EA52F9B6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3" idx="4"/>
            <a:endCxn id="104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4" idx="4"/>
            <a:endCxn id="109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4" idx="4"/>
            <a:endCxn id="108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9" idx="4"/>
            <a:endCxn id="114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C3B7-79EA-4478-984D-48F2E1CDB80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DD2F4E-92C6-4845-AB86-DE40500C28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B860-D937-4157-A859-40AA2D648A9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7A4242-C272-47C0-BE8F-DC205C9B17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B849-A8E6-4614-98E2-75E8D9AE6F5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136E70-17F8-4AF6-9286-D6D39D518A1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049C-052F-44FC-8800-C9C101179C9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F4AF04-DF36-4CE9-BBA4-9EC98C101F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” indicates to compiler that obj is statically ty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6218-71FD-43AD-A912-F35486496E67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A2D4C-2B38-4741-93AF-2043996EBC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- allocate and de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bject is created in a memory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A58D-9526-43F3-AF67-48C9E76F4E5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55462C-6751-4870-84CE-E78EF6D242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0B04-6A05-492A-A9ED-A34D9046FF9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DEAB53-6517-4612-8536-60F9ABA09A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649600"/>
            <a:ext cx="5791320" cy="3207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89D0-B8F4-4D98-B9B6-CA0A7EFAC35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71F954-3F18-47A4-AACF-6AC4E7D66C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1F76-63DF-4D12-B118-BC6EDE1EEB3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9B1DB6-987E-4E4D-AE2E-F661FE96D6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AE18-1762-4B6F-ADAA-EEB91138A1C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82886E-E3C3-4BBB-BBC3-8BE641C356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 (object returned o.w. not val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1937-3BD5-4173-93B7-382EB5C13B5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544FB4-5F9A-4282-A962-9CB69F4822D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325A-4F71-4753-9AE6-0D2008C14C3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29483B-0E63-4557-9EA1-9605391CE0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C9D8-C4C6-4014-BD07-D47A0D0C038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2CA270-8EBD-47AF-A662-A973A0D3D7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ABEE-EE2D-4B79-B518-54957DB37F0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248614-B431-4348-B3D4-C8240CBF55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3"/>
            <a:endCxn id="222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1" name=""/>
          <p:cNvCxnSpPr>
            <a:stCxn id="229" idx="3"/>
            <a:endCxn id="223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2" name=""/>
          <p:cNvCxnSpPr>
            <a:stCxn id="228" idx="3"/>
            <a:endCxn id="224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72B7-EEFD-4187-9096-C1C12F2F14C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8F1E40-FE52-4FDD-BA66-9A3B69CB39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3BF2-657E-433E-9FB9-0C934356AD9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38E221-8ABB-4408-87C5-D806050631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C150-8644-433D-B265-5BFBFD5929D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3DFA5C-76BF-4454-B3B9-D0FB32E01A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EA7F-465A-4356-A147-572DF70346B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5587A2-52C1-41E3-B15B-0CDD77AA000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F674-C194-4177-B3E9-6EDCFC5F972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B1C6EB-8B51-4646-84DE-9C0DDC94B4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 and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ow have a collection of agents - 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now takes as target the collection object - a List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lection object passes on the message to each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buildAction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Actions = [ActionGroup create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ForEach: bugList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message: M(step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To:  reportBug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message: M(report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Schedule createBegin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setRepeatInterval: 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modelSchedule createEnd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at: 0 createAction: modelActions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sel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5722-8AB5-4877-917D-C90D09F24DAF}" type="slidenum">
              <a:t>2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E7F2C3-3752-4FB5-A887-3F3F84DCCD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grid holding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85F7-F6FA-4EFD-A8D9-BCE897C7788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0ACDE-80AB-4DC5-BD42-08B75DD810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667E-21F6-46EC-91A5-FDBF83B54359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DAEEC6-B30B-4791-8495-587D0ECA9C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9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6" idx="0"/>
            <a:endCxn id="313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0" name=""/>
          <p:cNvCxnSpPr>
            <a:stCxn id="317" idx="0"/>
            <a:endCxn id="314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1" name=""/>
          <p:cNvCxnSpPr>
            <a:stCxn id="318" idx="0"/>
            <a:endCxn id="315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FF17-1C45-4408-8760-5D3D45C8B23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C2941-5053-42B5-978E-C97234836A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BB79-2FEC-48D0-88E8-6DAAFCA601A6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8DB26D-44DC-437F-9F8E-EA8325A886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E776-C3C9-4BFE-B5B8-3C2EBC916D9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F5E46-4C64-4C4B-A0C6-781994B143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67080" y="4114800"/>
            <a:ext cx="2971800" cy="7621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dfaced i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plac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6186-9FA5-4ABA-95D3-030E12C05D0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538A6-75F9-443C-B198-7C2D3AD967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6889-A14E-4E11-92A2-DA15007492C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2495CD-293C-4189-9AF2-E17E4B718A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2222-FC02-4A21-B7FD-F2B6094F38B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1122DA-8E59-4142-A6C7-938D8A0F40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6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3" name=""/>
            <p:cNvCxnSpPr>
              <a:stCxn id="362" idx="1"/>
              <a:endCxn id="360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>
              <a:stCxn id="360" idx="7"/>
              <a:endCxn id="361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5" name=""/>
            <p:cNvCxnSpPr>
              <a:stCxn id="362" idx="6"/>
              <a:endCxn id="361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6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3430-5CDD-4D9C-BAA4-1F381E30026F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D98E35-98C7-4278-B03C-4091227D78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endCxn id="388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C161-8E37-4F40-80FD-6287BE0C18F5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EA44F6-5BC1-41C6-8CCB-3CED3E3E59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8A7C-1D1A-4FC9-8143-93F6D20DCC68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63F3B-A90B-4EA4-AB33-B9258F2D00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5810-2FDD-4C30-BBB1-8AC015753DD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10895E-E376-4B42-B799-99F9847446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CD7A-39D8-493D-A611-3D5FBD70E7A0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0F5046-C70D-403A-AA32-B0858BF1AE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16" idx="1"/>
            <a:endCxn id="420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stCxn id="413" idx="1"/>
            <a:endCxn id="423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2"/>
            <a:endCxn id="412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0" idx="3"/>
            <a:endCxn id="412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9" idx="4"/>
            <a:endCxn id="418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5D66-279D-45D9-B523-08FF00670703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FB443-8EE0-442A-A15A-A7B4EE612B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4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66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9" name=""/>
          <p:cNvCxnSpPr>
            <a:stCxn id="467" idx="1"/>
            <a:endCxn id="457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70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79E5-12C9-4C1C-98C3-6074E5553772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3A6DB6-08F8-4890-BB2F-4B4D4306FC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3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4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Variabl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4FDD-934C-4B59-B3C6-F143B8FD3C95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C4758E-F740-4FD7-9A7C-02BB1069E5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A05F-B6EC-4D51-B078-6206602DCFB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73C4A-125B-4F52-8682-136345CA14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499" idx="0"/>
            <a:endCxn id="494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9" idx="2"/>
            <a:endCxn id="497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509" idx="2"/>
            <a:endCxn id="501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613A-8E3D-4932-8259-A1B191A1D2C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A28B0B-9D16-4A2F-8D19-41635EDCF5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then call [probeDisplayManager createProbeDisplayFor: modelSwarm] in Obser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2CA9-20A2-4BA0-9EF3-616033486DB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495077-59B0-47D7-8B1F-89EE341F7F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5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C926-F1CD-47BB-8128-32BE90BC2081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279E0A-17B4-46C2-9F01-98376F8D1E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3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9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5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6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FE03-813D-4634-BBA5-97FC4D3AB9EC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070F2D-046C-418A-9D77-B85BCEF4A5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9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5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4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60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9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4A19-A124-426A-9E85-1B3233D3EB30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50572-8BAB-4B01-96AF-0E00E90651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B8EA-39F5-48B4-954B-3AB8489DC72E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E3FA7C-028F-453C-B832-B94409C3674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ADA2-F32F-498D-A8D1-EBA9127C25C6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45E21F-72D9-456A-ADB2-5A8766200D1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,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3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4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0A6C-0E6F-4F57-AB80-5FE0D34AFC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A3FFF9-F351-43BE-8D64-9A791268952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C970-66AB-4B54-A586-6B1B28BEA00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A6B0BD-747A-4B68-BCF7-FBCAECED52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74FD-624C-432E-A096-18434E041B4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89C592-1117-4236-81BE-CD8C124D8F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 and 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8A9A-4A6A-41A8-9421-172B3EF081E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A4FBBF-6D41-4886-AD06-3993586ABA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Office</cp:lastModifiedBy>
  <cp:lastPrinted>1998-03-18T02:24:41Z</cp:lastPrinted>
  <dcterms:modified xsi:type="dcterms:W3CDTF">1999-04-02T03:46:11Z</dcterms:modified>
  <cp:revision>41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