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5A96-18C7-48FC-B81E-BB908042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E3F8-CDE3-4247-8BAE-D56FE004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F7DA-9DCE-402A-A508-547E1112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6B0D-4828-41FE-B8A1-28FC8B08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4602-F2FE-431F-B3D4-9725D3BA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8D33-256A-42D7-AFDA-23F260DE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1855-75EC-400D-82C2-9B40E0AA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D345-472D-4781-BB7F-7E95F5EE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F396-DA88-47E8-9EFB-BBF44C41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903F-92E3-4C2A-84E4-AB5AF77A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2215-46CD-4AD0-B681-867C94B5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41A-601B-4A2B-BBA5-6CD9E5EA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88D9-51A2-495C-ABD5-9B933EF41B8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FB8C-41A2-410D-BEC2-D2C4DDD2B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91F6-A6CD-40C1-8A72-C0A96E45425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B5511-6D58-4B4F-952B-A736840883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7F66-0DCB-4B47-AEE9-4A6827AA33F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2BF04-51F1-4F0D-A5DD-356DC15883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0976-378B-4EA5-8203-D426D59A9A6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CDA69-D89D-47AB-8098-CEE6BB58B8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of scheduling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187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4"/>
            <a:endCxn id="185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85" idx="4"/>
            <a:endCxn id="175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83" idx="1"/>
            <a:endCxn id="176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84" idx="3"/>
            <a:endCxn id="182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96" idx="1"/>
            <a:endCxn id="192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7" idx="3"/>
            <a:endCxn id="198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64FF-A061-46F0-9F12-89F28F790AB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910BC-31FA-4F33-9511-2E5900B58D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7" idx="2"/>
            <a:endCxn id="252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0EB-A9F2-4CA6-9349-97B3134BD1B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439A9-5136-4F3D-8E19-68EA230BA1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8" idx="1"/>
            <a:endCxn id="276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6" idx="7"/>
            <a:endCxn id="277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" name=""/>
          <p:cNvCxnSpPr>
            <a:stCxn id="278" idx="6"/>
            <a:endCxn id="277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sort of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E587-EB29-459C-B1C3-C07255A2E6B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119F1-4E5A-441B-B524-39B1A2A937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s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E56D-053D-465A-8D75-9F44F7C473F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FAB35-8A98-431F-9406-30912B0483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23600" y="2212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k c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22880" y="2651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n b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33320" y="21938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 wh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300" idx="2"/>
            <a:endCxn id="304" idx="7"/>
          </p:cNvCxnSpPr>
          <p:nvPr/>
        </p:nvCxnSpPr>
        <p:spPr>
          <a:xfrm rot="5400000">
            <a:off x="5163480" y="3412800"/>
            <a:ext cx="1119960" cy="51048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300" idx="2"/>
            <a:endCxn id="305" idx="0"/>
          </p:cNvCxnSpPr>
          <p:nvPr/>
        </p:nvCxnSpPr>
        <p:spPr>
          <a:xfrm flipH="1" rot="16200000">
            <a:off x="5529240" y="3557160"/>
            <a:ext cx="1083240" cy="185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"/>
          <p:cNvCxnSpPr>
            <a:stCxn id="300" idx="2"/>
            <a:endCxn id="306" idx="0"/>
          </p:cNvCxnSpPr>
          <p:nvPr/>
        </p:nvCxnSpPr>
        <p:spPr>
          <a:xfrm flipH="1" rot="16200000">
            <a:off x="5899680" y="3186000"/>
            <a:ext cx="1083240" cy="927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0" idx="2"/>
            <a:endCxn id="313" idx="0"/>
          </p:cNvCxnSpPr>
          <p:nvPr/>
        </p:nvCxnSpPr>
        <p:spPr>
          <a:xfrm flipH="1" rot="16200000">
            <a:off x="6309360" y="2776320"/>
            <a:ext cx="1083240" cy="1747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" name=""/>
          <p:cNvCxnSpPr>
            <a:stCxn id="302" idx="2"/>
            <a:endCxn id="308" idx="0"/>
          </p:cNvCxnSpPr>
          <p:nvPr/>
        </p:nvCxnSpPr>
        <p:spPr>
          <a:xfrm rot="5400000">
            <a:off x="7480800" y="2932920"/>
            <a:ext cx="682920" cy="119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3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62400" y="2647800"/>
            <a:ext cx="171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8CC-6E6D-4B4A-9E45-25A814E29B8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5B347-ABD4-41F0-BA91-791076133F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4" idx="2"/>
            <a:endCxn id="329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7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3AC0-A499-4C8C-BDEF-41969D47568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82F48-F41A-4F93-A4F0-29F8DC0959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ropped using a notion of 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extension of same principle can also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374E-2808-4F0D-851D-D3A135AC892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C487C-52F9-4C04-A25E-4648463164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513E-C2AB-4FEF-B101-2624904D794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2BC75-D1A0-4A7C-A227-CF22F12F59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2CFE-C4F0-4D96-AA75-4EE638E9C4B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C13D1-935A-468E-838D-DFFCF04736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probe map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0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F6ED-43AB-482A-BC35-37D316653CA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B85E67-DB78-480C-8957-21D105CD69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2" idx="1"/>
            <a:endCxn id="385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7" name=""/>
          <p:cNvCxnSpPr>
            <a:stCxn id="393" idx="3"/>
            <a:endCxn id="384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>
            <a:stCxn id="394" idx="1"/>
            <a:endCxn id="382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9" idx="2"/>
            <a:endCxn id="383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5A79-89A6-47AB-87C2-06BD816A801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521AA-AE1B-41CA-8E9B-45776056CF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04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1007-8E3F-4D98-9144-9AE3B227D35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2E303-2ED8-4C6B-B6A4-5959B51379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3"/>
            <a:endCxn id="413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8" name=""/>
          <p:cNvCxnSpPr>
            <a:stCxn id="424" idx="1"/>
            <a:endCxn id="410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25" idx="2"/>
            <a:endCxn id="416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0" name=""/>
          <p:cNvCxnSpPr>
            <a:stCxn id="426" idx="2"/>
            <a:endCxn id="414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1" name=""/>
          <p:cNvCxnSpPr>
            <a:stCxn id="422" idx="0"/>
            <a:endCxn id="411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2" name=""/>
          <p:cNvCxnSpPr>
            <a:stCxn id="421" idx="0"/>
            <a:endCxn id="409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33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3" idx="0"/>
            <a:endCxn id="420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9D97-3870-492D-A62E-9B13990D8C5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06D5A-195C-4870-8C63-172416CF99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Rhapsody 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reator and destructor functions as in C++, nor overloading of functions or multiple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ED9-956E-4681-A8BC-CFE7C008760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E143E-DA92-4A7F-9164-BBEEF293CC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3" idx="4"/>
            <a:endCxn id="445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3" idx="4"/>
            <a:endCxn id="444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8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endCxn id="439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2" name=""/>
          <p:cNvCxnSpPr>
            <a:endCxn id="438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43" idx="0"/>
            <a:endCxn id="440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"/>
          <p:cNvCxnSpPr>
            <a:stCxn id="445" idx="2"/>
            <a:endCxn id="441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8" idx="1"/>
            <a:endCxn id="449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7" idx="1"/>
            <a:endCxn id="449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1DB5-6E99-440F-8FAE-2F0EF0FFE8E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ECED9-31DD-46F3-A54B-599E3DFEF6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@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ations of instance variables 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essage: (type) 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2720" y="1981080"/>
            <a:ext cx="404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806F-4719-40EA-8974-863C984F87C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201B4-F67A-4329-8B3D-0E39C6FAC0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 (type) 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B366-0715-43D7-B5EA-94DBEA38C49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AABFE-D8C9-436E-B3CC-59D4DD9B7D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9877-D9B5-4D47-A5E2-BD1A78A4B1C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84731-E46D-43C6-8A85-F8A097E05F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6C65-30C5-40B5-BA06-058C8172EE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C2ACB-6352-4F81-A09D-7F7DEBF8A1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var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vartype) ar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DA57-2768-4EB9-BFD8-8764D88A277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680D2-AECA-4182-829E-ED4C03214B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var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vartype) ar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 etc. 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returning no value must retur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B2A1-44E9-4D41-B885-FBF4ACA51CB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8A104-1D72-4A56-9DD3-46194B299B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 name: (type) arg1 argName2: (type) arg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arg1,(type) arg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FBC6-BC76-4C4D-9785-2F1FAA322CD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5D9E5-EFFB-4F21-9CDD-3B1837120C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 of C vs.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01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rand_move(int i) {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mp_lo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mp_loc=get_rand_loc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while(val[tmp_loc]!=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[location[i]]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[tmp_loc]=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8560" y="1981080"/>
            <a:ext cx="3905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rand_move: p {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lo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c=[self getRandLoc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while([world at: loc]!=ni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 moveTo: loc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ABA0-6649-468C-A89C-2DCA8F333EE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76465-31EC-43B4-BE6D-CED14F5103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4643-4B94-455F-9FDC-902AB5ED8CA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E3A59-7203-4964-9661-FE3CE4FADC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0D63-F3AF-4938-BF36-8152D079CB9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0A53E-684A-4BC3-BCCC-506A5CE97B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ed in 1994 by Chris Langton at Santa Fe Institute in New Mexico (Contributors: Chris Langton, Roger Burkhart, Nelson Minar, Manor Askenazi, Glen Ropella, Sven Thommesen, Marcus Daniels, Alex Lancaster, Irene L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create a common simulation platform for A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sed in beta in 1995, 1.0 release in January 1997, 1.1 with Win95/NT support : April 199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: Windows 95/NT version, (Rhapsody?), other GUI implementations, client-server approach, paralel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F065-7142-4384-9A4C-CE29775141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46D6B-80B9-42EB-A2D7-C9515F0FFE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/Tcl: Scripting language and GUI widgets. GUI is now independent of this implementation and may be substituted by other widget sets in near fu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X-Windows/Unix and Windows 95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FC23-0E78-420D-91D0-50AE9ED566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89931-845D-4075-B816-2D3D280C45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endCxn id="53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234C-044B-4C79-98D0-0ABAAEA58EE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077E3-5412-43A3-AF9E-3F29EF2A69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5160" y="2550960"/>
            <a:ext cx="2689200" cy="268920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93440" y="3198960"/>
            <a:ext cx="135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40520" y="42688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11600" y="36892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9800" y="549108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163520" y="3879360"/>
            <a:ext cx="243540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F257-08C3-4D96-88AD-4BB4B80E74C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4BE72-7208-4AEC-8E78-4103E862BD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5A8F-BE2D-42E1-8DEC-75AF9E32BFE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04882-0B02-4136-8A63-4D60516D60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’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17" idx="4"/>
            <a:endCxn id="126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17" idx="4"/>
            <a:endCxn id="125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5280" y="2521080"/>
            <a:ext cx="83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FD6E-D628-4B12-884B-822E0874223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42DAB-049A-4316-BAAB-8230DDBB28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Benedikt Stefansson</cp:lastModifiedBy>
  <dcterms:modified xsi:type="dcterms:W3CDTF">1998-03-19T09:05:11Z</dcterms:modified>
  <cp:revision>24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