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3A7-A156-4177-BDF3-6E45D698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94F-A83D-468B-846B-4225059A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7335-DCF1-4549-B1E5-3BD708F6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49F-D8E7-4706-A2BB-2445BF24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5B6-B4D6-4C41-A5AD-FF01CEBB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B506-FC63-4C6F-B641-D9F408C1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1A62-F5E7-40C8-AE0D-5F367DF9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6B51-FD60-4FD1-943C-53EB69BD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6709-430C-4A20-870E-007029F2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492D-C192-4445-A3A0-D6193DB5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7B81-8EE3-4D48-A1CB-6F63BF8D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9A83-A70E-4E8D-A6C7-2CE64DBE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F5DA-EE3F-4F46-A7DE-DFB88896A4C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7729-ED68-4FC4-8766-776D9E589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01DF-E624-4437-B161-A41FD11F778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9DD59-CC71-4E7C-BA81-96FB07AE24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320-D1EF-4338-9E69-208D04E319E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3CE5B-A4C0-47BD-A46D-5AEC80DCEC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4"/>
            <a:endCxn id="106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6" idx="4"/>
            <a:endCxn id="111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6" idx="4"/>
            <a:endCxn id="110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1" idx="4"/>
            <a:endCxn id="116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2412-AA9F-4D72-BF44-13FDCE093D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6D8AF-5030-42BB-A47E-1DA5ADDA6B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FC1D-39E4-48A7-AF4F-ED25329988D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78020-84F0-4465-AE22-F85E4A5F64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F76-1259-4221-A611-1ABD72C1B7B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E61A8-43A0-4907-BB45-D428C6FA33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F658-7A97-45CA-B2AD-8898B563873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1914B-8558-43FC-8707-92B41866E9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s to compiler that obj is statically typed to ModelSwarm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7314-67F4-4BCA-A5A4-65A6B57D797C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BFA75-E771-4E89-9C19-84F0EDE2B7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ither case the object is created “in a memory z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’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2576-8F28-43BD-BC22-BF659E6C193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51F6B-7AFD-4DEB-8D98-21AC30B3BC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753F-DF81-4BAE-BC83-39ABB883C74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A004D-097D-4E4B-BE83-1617526060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66688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E528-6EC7-4297-BF61-BAFB7195773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7D273-410A-4AED-9BC3-411B9DA708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FE6D-012D-4367-AB21-1532111C68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152DA-F62C-468B-8568-90CF850FC5F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AF33-EFD3-4899-AFD6-E03359B9D81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BE3BE-CD86-4F24-BEFD-4637FD5E64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775-FE0E-4347-A04B-45FF52891FB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13F98-DCD1-40FE-825C-E1AD8C09DB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F7B4-57F8-4EA9-9067-ADFC907D01A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38A6A-4174-4B2B-B9E0-D6CA0021E0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9C0-739A-4AD7-9FEF-B937FAC040F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CDDC5-41A5-4317-AC4C-CC26102BBE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A2E-5306-4181-8C04-18EB2816945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C2592-7128-4C33-B096-34AB73AB18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4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3" name=""/>
          <p:cNvCxnSpPr>
            <a:stCxn id="231" idx="3"/>
            <a:endCxn id="225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4" name=""/>
          <p:cNvCxnSpPr>
            <a:stCxn id="230" idx="3"/>
            <a:endCxn id="226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2288-7729-472B-B8DF-79817CF72A8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57E45-63C0-4BDA-993C-3D668ED372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DFE2-68BD-435E-8F1F-7F07EFFBF21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F5B93-8E16-4D00-9E53-7D30D2D1BD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867D-0E74-48B5-800E-FC8E7C3C8DB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B2097-4C23-4CC7-83FD-B793241DAE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B757-05FB-41A8-B65D-FD864299209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3DCB4-A87F-4A9C-AEB6-0631DCFE90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CD8-34A8-43E8-8FAC-DF211D1DF86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61544-CEFB-43DB-B3A3-CE930C9A67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FoodSpac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270-AE54-43C4-BB6E-7A558C1392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029BE-E7C7-4B2A-9EB9-DFF994ACB84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253-4AA0-4B58-882A-0F7AE94230A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31487-0B28-4EBE-83C1-D42D2E12A8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8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5" idx="0"/>
            <a:endCxn id="312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" name=""/>
          <p:cNvCxnSpPr>
            <a:stCxn id="316" idx="0"/>
            <a:endCxn id="313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7" idx="0"/>
            <a:endCxn id="314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062-C364-4869-B951-51F39A04F7A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7C5FE-57F5-4575-A728-DF0FC8459C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A23-7203-47BA-B4EB-1D955269599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E82DA-C4F2-41F3-A415-0D374AE420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9B17-0C13-4D2A-B1DE-BE9DAF52457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A2520-E7D0-4D54-A263-DD799C9E9F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EC8-6CE1-41F7-B45D-E03288DC637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6E559-D3C3-4386-9015-B8CB7A9E81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7867-6500-4990-82E1-92235BA3692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E8AA3-0855-4FD4-9431-6D875AA614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B385-DA75-49DB-B5AE-7A688FD6684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0FB83-D15A-41C1-903E-BE5E7F8C06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4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1" name=""/>
            <p:cNvCxnSpPr>
              <a:stCxn id="360" idx="1"/>
              <a:endCxn id="358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58" idx="7"/>
              <a:endCxn id="359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3" name=""/>
            <p:cNvCxnSpPr>
              <a:stCxn id="360" idx="6"/>
              <a:endCxn id="359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4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6497-D5B2-42B0-B822-7A05A86CF12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36463-E52F-46A3-B0D2-748475E429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endCxn id="386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BB13-03E0-4BA1-B4F7-D4DA83891B9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A4306-B4F5-4A32-8E69-DE275EDD79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2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995F-96AD-4865-AFFB-8B2370EA6856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ED282-63E8-4779-A765-8205D90225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EF82-A715-441F-9F86-CA765E35BE0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E5052-90FC-4363-8FAB-A300D45339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E2FA-2E10-4518-9CDA-A5E665F9CB6A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17046-EDF7-464C-9BE3-A402E7DB6A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414" idx="1"/>
            <a:endCxn id="418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1" idx="1"/>
            <a:endCxn id="421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1" idx="2"/>
            <a:endCxn id="410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18" idx="3"/>
            <a:endCxn id="410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27" idx="4"/>
            <a:endCxn id="416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DF14-61B6-46D5-81B0-A01B56D5A8A0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7FDEF-BEA7-4132-A258-EE302DF4DF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2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4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7" name=""/>
          <p:cNvCxnSpPr>
            <a:stCxn id="465" idx="1"/>
            <a:endCxn id="455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68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3B49-F535-4785-AD38-BC5214B1B53D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B5421-22D3-484E-BAF7-4C913E76F7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78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79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E9D2-437C-423D-BF11-05E3FC02F9BD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6DEB6-0F11-451A-A6C2-5ECA7B1DB5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132B-78D1-424E-9AD3-7A53E46BFDC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38563-3E7D-4B30-A69A-2CD71396CC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497" idx="0"/>
            <a:endCxn id="492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497" idx="2"/>
            <a:endCxn id="495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7" idx="2"/>
            <a:endCxn id="499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1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C1E-A7BE-49D0-8E17-F5429CE0666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74320-F9F1-4BC2-943F-6B323BD736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lso must execute CREATE_PROBE_DISPLAY mac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 ObserverSwa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454-2EC9-46DD-9196-BD5DBD36374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8EB2C-D66B-43E4-A182-B8BE73D693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3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AC48-DC91-4444-88E6-BDC5C3975644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E63ED-91D5-4B8D-88D9-530D9F14EF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3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4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D6FE-E329-4A3B-B3BC-551CF23F3B60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24944-CCE4-48ED-8B79-9B58DB20FC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7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3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2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58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7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2BB6-A31B-4979-8432-EB536B82DC6B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250C0-3011-4DC9-8A6C-76E1754607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BEB-BAB8-4DF3-8BF2-89C5E9D45BDA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71F06-990B-499F-A66D-7FDD887B46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4A9-61FA-4AF3-A06D-3FB9921F632D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05F5C-BE15-417F-9B9D-51B82991F8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 class sets up line graph for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agent o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of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th cases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sequence (Count, Total, Average, Min,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(obj or coll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method to fetch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553080" y="2368440"/>
            <a:ext cx="1371600" cy="998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7166160" y="4201920"/>
            <a:ext cx="939600" cy="1577880"/>
            <a:chOff x="7166160" y="4201920"/>
            <a:chExt cx="939600" cy="1577880"/>
          </a:xfrm>
        </p:grpSpPr>
        <p:sp>
          <p:nvSpPr>
            <p:cNvPr id="704" name=""/>
            <p:cNvSpPr/>
            <p:nvPr/>
          </p:nvSpPr>
          <p:spPr>
            <a:xfrm rot="17683800">
              <a:off x="6835680" y="4842000"/>
              <a:ext cx="1600200" cy="297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831080" y="444888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4800" y="4758840"/>
              <a:ext cx="213840" cy="214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70000" y="50169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315200" y="53265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9" name=""/>
          <p:cNvCxnSpPr/>
          <p:nvPr/>
        </p:nvCxnSpPr>
        <p:spPr>
          <a:xfrm flipV="1" rot="16200000">
            <a:off x="6110640" y="1971720"/>
            <a:ext cx="846720" cy="1791720"/>
          </a:xfrm>
          <a:prstGeom prst="bentConnector5">
            <a:avLst>
              <a:gd name="adj1" fmla="val -27009"/>
              <a:gd name="adj2" fmla="val 57435"/>
              <a:gd name="adj3" fmla="val 127009"/>
            </a:avLst>
          </a:prstGeom>
          <a:ln w="9360">
            <a:solidFill>
              <a:srgbClr val="f8f8f8"/>
            </a:solidFill>
            <a:miter/>
          </a:ln>
        </p:spPr>
      </p:cxnSp>
      <p:cxnSp>
        <p:nvCxnSpPr>
          <p:cNvPr id="710" name=""/>
          <p:cNvCxnSpPr/>
          <p:nvPr/>
        </p:nvCxnSpPr>
        <p:spPr>
          <a:xfrm rot="5400000">
            <a:off x="5923800" y="3371760"/>
            <a:ext cx="305280" cy="1486440"/>
          </a:xfrm>
          <a:prstGeom prst="bentConnector3">
            <a:avLst>
              <a:gd name="adj1" fmla="val -7497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1" name=""/>
          <p:cNvSpPr/>
          <p:nvPr/>
        </p:nvSpPr>
        <p:spPr>
          <a:xfrm>
            <a:off x="6019920" y="4044960"/>
            <a:ext cx="1523880" cy="984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2" name=""/>
          <p:cNvCxnSpPr>
            <a:stCxn id="704" idx="1"/>
            <a:endCxn id="711" idx="4"/>
          </p:cNvCxnSpPr>
          <p:nvPr/>
        </p:nvCxnSpPr>
        <p:spPr>
          <a:xfrm flipV="1" rot="16200000">
            <a:off x="6697080" y="5112360"/>
            <a:ext cx="687960" cy="519840"/>
          </a:xfrm>
          <a:prstGeom prst="bentConnector3">
            <a:avLst>
              <a:gd name="adj1" fmla="val -4246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3" name=""/>
          <p:cNvSpPr/>
          <p:nvPr/>
        </p:nvSpPr>
        <p:spPr>
          <a:xfrm>
            <a:off x="5180400" y="54864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800600" y="40384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76920" y="41911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952880" y="44949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22096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029200" y="23623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105520" y="26661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0" name=""/>
          <p:cNvCxnSpPr>
            <a:stCxn id="713" idx="2"/>
            <a:endCxn id="704" idx="2"/>
          </p:cNvCxnSpPr>
          <p:nvPr/>
        </p:nvCxnSpPr>
        <p:spPr>
          <a:xfrm flipH="1" flipV="1" rot="5400000">
            <a:off x="6392520" y="4565880"/>
            <a:ext cx="891360" cy="1864440"/>
          </a:xfrm>
          <a:prstGeom prst="curvedConnector5">
            <a:avLst>
              <a:gd name="adj1" fmla="val -25656"/>
              <a:gd name="adj2" fmla="val 65102"/>
              <a:gd name="adj3" fmla="val -256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8E4-EDB6-403C-A9A2-F2381E8C2FA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41EC5-B9A4-41BA-8C4C-A5EE8C4EBF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 C program 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started at X=$1 Y = 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10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xPos 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worldSize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yPos =yPos +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 worldSize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moved to X=$1  Y=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5930-10DC-4EC8-8E06-28A6700B70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34FEE-EC9C-48F0-8BFB-D5D49AADC0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 and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5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6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60A0-0A4C-4105-9001-E010F36119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4042F-42C7-4DB7-B4A0-6FAA6F8657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07FB-FE64-4BA9-8DC7-530CA697FC3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A845A-D2FD-4874-ADF4-00EE5EDE49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025C-D5DF-4186-927D-878A97A124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CA9D4-BF6C-4382-9CEA-A70B47EA03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Benedikt Stefansson</cp:lastModifiedBy>
  <cp:lastPrinted>1998-03-18T02:24:41Z</cp:lastPrinted>
  <dcterms:modified xsi:type="dcterms:W3CDTF">1998-03-19T09:21:11Z</dcterms:modified>
  <cp:revision>28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